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80B-1E28-417D-B7AF-2B8B9889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0DD-6F56-400F-ABF3-33D16886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448-66C1-482A-9FCF-801D4F8B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F50-1BC5-470B-BFF2-582C0DC7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1F4C-A0B3-4DAE-97BD-54867EFC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2EF3-BA23-4019-824E-49302074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1C4F-AD7B-4999-8E0B-AA7AD820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EFE8-7D32-49F3-B406-C9B626B8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536C-4D59-4439-AA13-E5AF7D5F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5E9F-240A-49AF-8C23-898ED335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9645-4751-4550-BDBE-0BA7190C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F78-D341-4124-8DD2-F617E12C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5C58-054C-4C12-BF8B-8D79AE73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8BE7-C3B0-405F-BED9-F29F4E4E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6F8-5F6A-42D5-B0F1-9CBC44DC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6786-A28C-441A-B26D-6D05FF89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CE1F-C684-4BD5-B9D7-11F90240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FBA-E0FA-4685-B628-FA222827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D73-A87D-43C7-A09F-A310753E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C16-11EA-431E-A207-B76A8004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FB6B-DBCB-4F4C-B9B8-9D10829E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440-85A6-43BB-8A8B-07B19613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34D-C6CC-456C-B23E-62E614CD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EC3-F229-4AD1-A17C-F853703C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12BB-83F3-4132-A3D2-687DE37EE260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CA01-86E2-4C72-A550-D87050E76624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SI</a:t>
            </a:r>
            <a:r>
              <a:rPr b="0" lang="lt-LT" sz="4200" spc="-1" strike="noStrike">
                <a:solidFill>
                  <a:srgbClr val="330033"/>
                </a:solidFill>
                <a:latin typeface="Times New Roman"/>
              </a:rPr>
              <a:t>CHOLOGIJOS ĮVAD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ok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ala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593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54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340000" y="404640"/>
            <a:ext cx="63468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hn Wats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Psichologija biheivioristo požiūriu“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IVEIVIOR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raham Maslow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Motyvacija ir asmenybė”.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rl Roger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UMAN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ktor Frankl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laikomas egzistencinės psichologijos pradinin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ZISTENCI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raida Lietuvoje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6m. – VPU prad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ėta ruošti psichologus (katedros vadovas A.Guč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9m. – 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3m. – specialiosios psichologijos laborator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m. – Lietuvos psicholo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ų sąjung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APIBRĖŽIMAS IR OBJEKTAS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mokslas, tiriantis psichikos faktus, nustatantis dėsnius ir kuriantis jų aiškinimo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os mokslo objektas –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ika ir jos reiškinia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a tyrinėja: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žinimo proce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dividualius skirt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į elges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TEOR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endro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aido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Zoo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opsichologija ir 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RAKTINĖS PSICHOLOGIJOS SRITY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inikin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rganizacinė psichologija (darb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dagoginė psicholo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orto, reklamos, teisės ir k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PSICHOLOGIJOS MOKSLO IŠTAKO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Religija, mitologija, filosof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enovės Rytų tautų psichologinės pažiū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ntikinė psicholo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iduramžių psichologi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330033"/>
                </a:solidFill>
                <a:latin typeface="Tahoma"/>
              </a:rPr>
              <a:t>Psichologijos istorija</a:t>
            </a:r>
            <a:endParaRPr b="0" lang="en-US" sz="40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1778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6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79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340000" y="1905120"/>
            <a:ext cx="63468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rnst Web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ustav Fechner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sichofizikini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yrin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r Francis Galton 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ino vertinti intelektą, pradėjo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vynių tyrimu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helm Wund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įkūrė pirmąją psichologijos laboratoriją Leipcige, Vokietijoje, kur pradėjo taikyti mokslinius metodus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ALIZ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173844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8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89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0 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24000" y="404640"/>
            <a:ext cx="7020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man Ebbingha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ociacijų dėsniai, atminties tyrinėjim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illiam James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irmasis psichologijos vadovėlis ,,Psichologijos principai” (2 toma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FUNKCIONALIZ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šleido knygą ,,Sapnų aiškin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SICHODINAMINĖ PSICHOLO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15937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5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06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191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404640"/>
            <a:ext cx="62755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lfred Bine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heodore Sim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sukuria I-ąjį intelekto te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usų fiziologas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van Pavlov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klasikinio sąlygojimo eksperimentai su gyvūna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x Wertheimer, Wolfgang Köler, Kurt Koffka –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vokimo tyri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ŠTALTINĖ PSICHOLOG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1:47:41Z</dcterms:created>
  <dc:creator>vplc</dc:creator>
  <dc:description/>
  <dc:language>en-US</dc:language>
  <cp:lastModifiedBy> </cp:lastModifiedBy>
  <dcterms:modified xsi:type="dcterms:W3CDTF">2007-09-03T19:46:20Z</dcterms:modified>
  <cp:revision>20</cp:revision>
  <dc:subject/>
  <dc:title>PSICHOLOGIJOS ĮVADAS</dc:title>
</cp:coreProperties>
</file>